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C4E7-380E-4A9F-8ACF-E30C0D0AB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5871-44A0-408D-B5BF-4355D0DA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5A6939F-54A8-4011-B0D9-450EB42A8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4321F5-3E17-4A88-AF71-902C4F789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F1130BD-1C00-4A2B-9EBF-CA4D7673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0580802-692A-4FA7-A2CF-3F53ACA12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D37E58-8044-4577-A56D-1A215700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2FCB6F-F9CD-4B2B-90B5-2762FD1F5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59DDC9-B1BD-42F6-9B41-26879C853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A4D6C3-8334-4628-8909-3AFAFF5C07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0D5AEB-50C3-4335-9A23-802234FF8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FC5A93-908D-4EDD-9AE1-55C83330C9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9703D-3559-42A8-8693-E3D47F748B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765F6E-517C-4822-9821-AC1CA7B71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19FB6E-4CA0-484D-8398-451EF281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BC2668-00F4-448B-B8B4-8DBD44765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95185DF-1D6F-4FC5-B0D6-03AF6C38D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755DA9-8936-4C30-B440-A79B2BAC6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54283C2-581A-486E-AFBA-B5E99DDDE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4D7A54E-02D6-4245-9294-9ABCAEF59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7E4C3E-F61C-41CC-ADD3-B012E3E8B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14B7DA7-EB58-4242-A52F-662C38E6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29698F-C914-469A-9A0C-740AE06EF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3A08-6290-4F4F-BA0E-14470F509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E152AA-8C2B-43A2-9F6E-BC0AF8FD2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30FB7E6-2BC3-49A9-9B8B-5F9667C6D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95DC90-B571-4F96-B37C-62CCDD806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707E021-21B1-47D6-ACFA-AC34CFDB9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6F0308-CD77-460F-8480-61B3CFAD1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1FC7B6B-F3AB-4EC5-BD22-276802BB8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6A3E19-DCC8-4E8B-9456-590CF22C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AEDFDA-BA16-49E2-A4B1-0C24E353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E8BB3FE-B45F-4DC9-BFB1-0317E83E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FAC21A7-3CFD-4601-8B44-2D2F3437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EA63A-E787-4A84-8BA8-EB00E3595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20F43B-7A67-453D-AE4D-7AE92353F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F97A47-15C4-4597-8A85-A32304407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9FFBEE-9AD3-4E25-80DB-3833DAA97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F23616-4E6A-49A5-9EDD-B6E51E408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0688F1-B00B-4E56-9655-BF53DC131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04D9DD7-559B-451D-9438-70A0303CF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230C495-7B68-4401-ADA5-8417C2D2F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E52C35-4430-4F9C-90EC-2EC300DE8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211666-A949-44F0-85BD-86578BD47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349867-ADF3-46B2-9DDD-E0FBEFC63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F801C-8E2B-41FD-BDB4-283651E92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FAC4B9-BDB6-4B1C-9376-40D232BEC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8C44CA-A9E9-4093-B585-B72C3355EF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C1149-14B5-4664-A15A-91E64074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569E9F-80FF-4560-8390-5B7EE90D5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D715DC-BFB1-4231-9735-81577DD57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D16716-328A-4F9F-A7CF-CA73DC7AC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3F765FF-F49A-485C-AF1A-3F126C8D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F89770-DB3E-41E0-8B5C-D6321280D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901E425-BAF6-4800-9431-34488DB5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7B82B16-6772-49F9-B927-005F40C86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5C9B9-7932-477A-8C1D-AF6D93FCB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C0388DE-920F-43A8-8DAB-5BC23F788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C9F932-12B1-4AA9-BB86-F115F397E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7B0566E-5169-49D4-B001-3B9EE624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C3BDD48-45EA-4291-9712-D34F98A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D3012E-6A07-4E1D-9D14-49214903B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CF2575-6C9D-4234-8938-6EBF4822AA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5038EA-AB16-46C3-9ECA-A309CC88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A4CF876-A54F-4DF0-B560-C34FB4A84B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77EB2A-1909-486D-B268-3D1295697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67B152-5545-4E5E-B4AF-9E3A55C4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D7653-E43F-424B-B0D8-16413F865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F22118-C0BC-4E6C-87BB-7F58149D2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7458F2-9F2B-44D4-98A0-1F3F3E610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0979AB4-FDC2-45B9-A172-1E809FD31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F65B8C1-CF38-4C8C-B136-290913982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A75398E-1345-4BB5-8D57-53ECAAEF0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5A9E85-0E73-4395-AE2F-ADFC8B711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4AE2F3-E822-432C-89AF-4A2CBE6B8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1C40530-3A12-464F-9391-F3BFC7B992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725EC7-BF4C-4397-95BA-4DC7723F0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31F2A5A-5EEC-46A3-96F8-221AE4D413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3D670-86E5-485C-B232-00479A140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A6BC80-3FDD-4BA9-AC26-6CC00BDD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3FF65-A22D-4930-8355-50089E8B7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8C7481-5DED-4CDA-B3D7-7865D197C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343F03-0508-495C-BB48-808087C11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C80EF8F-50A3-4E8D-9B00-DD9196DBF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2AED09-B64A-4099-971B-616567449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A4B1D66-CDC1-4353-82DE-5D84F0A73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F775F85-0AFD-497A-A61C-1973E6D19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8F94695-BE7A-4F80-BB54-92559E798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49AFC91-62CA-4326-9879-FEDC0F3AE6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9B238-A075-4133-ADA9-C22D428984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8798B6-E67A-4FED-9880-71D00BEC3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09629C2-2AD1-47F5-AFB2-CB375C35B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1951D9-B3AD-42CD-A577-BFCA6E39C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D587EFA-943B-43F2-9BBA-72897D435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BB0487-17B3-40A0-AFC6-B26E5C369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9F237C-2448-4E1E-95A3-116A87C6C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9F0F5DC-B469-419D-9D94-5E4E06406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D5D822C-873F-467E-8F82-68F6DBEDF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2B7C9FC-6EEF-4082-A58A-C632E117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F907F4-F3B5-422C-BEA3-DEE8DB48D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B11C6-2AEB-4D58-8295-1D63C5F5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B011000-8BD4-4FBD-BF68-69A22B74D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E2C13D0-80B5-40E2-B2C9-02541702EB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34010F-71D7-4055-A554-151B2C7FE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92C830-5BD7-4FFE-AB0E-50D65AF42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5E77AA7-8673-4623-8CB3-09419F2FB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9AEB09B-3736-4863-AE86-6210E2A0D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1395AF-95C0-48FE-9638-CB45294A3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26016A-23CF-42D2-9D8D-F5FE5A63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7F056E-03DC-4C10-ABB4-BEE499467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D11A276-8AEE-4336-AB7B-B91FBE5A3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37997-077D-4E87-BEF1-DF7162F58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8F101-48CF-45EF-B3FF-520EF6797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A6565B-8054-49BA-A68F-4098251EE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235CA92-78B4-40D1-BD6C-B8BBA66EF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39EB66-D3D3-4302-AD9F-C828874BC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6FAD4C-579F-4719-8A6E-93BEDEAEDB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4B7FDA-3254-490E-A1D6-CF784A585C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6BF75A3-9558-447D-A0D2-89FF47803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848C9EA-38F2-4803-8883-9D47158CE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C7DE698-35EB-4E17-9187-BDD652CAA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301C62-2783-4CF6-8891-66D0B5F026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6A63BFD-77D3-4D69-9C1E-92D30B511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F3678-CBC2-44CA-BEA0-9A7D6399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1169BFA-304F-4108-BC66-BC05B6BFA4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E6AD171-E0E3-45AF-B3B6-D5B5CB87F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BF3692-DA36-4692-9C3F-21F1F561E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48E0E4-B947-4A80-872E-989F25AD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2BF5D4-63F4-4DDC-BCD2-CD0B9E576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79B4874-281F-4477-8A2A-865188CCC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8F5F39E-E8E7-4BD5-96D4-3340D0E15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009115-B6C8-4F98-B3BB-FB9EBB647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000ACEC-EE84-41BC-882E-59F49314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CD20D73-072B-4B1C-B03D-72A82A79C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15623-51D9-487D-9455-2995CA1F6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18F8987-BAAB-4B8B-BFE2-085053780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00341CB-E146-4D2A-9912-7AFE81A99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9A708BA-9029-4599-93E1-5B5F3FE1D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4662687-5BF1-41F8-B545-684E975D5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8982680-AF38-4BB4-BD18-14E6FEFB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4C9762C-43C7-43A1-A4E3-8E1C2099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A976235-B108-4D3D-AB47-F1A7A78D3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7B180-B0A1-44B8-95DD-A7B4979B4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098949-A9FD-4913-A175-55FE357D5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FFFD243-1E7C-4E38-B606-A4BBCB7C6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298C1-8122-4642-AAAF-D6DDB83F0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0DBA0CA-4D39-45DC-99EB-8CE4EB2B0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231096-C0A4-4D3B-A221-FE518943B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47ABDE-9B73-4736-942A-C5518C80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BC4F96-7A67-4E38-A9F2-F2BD0BB1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32AA9E9-ABF4-462E-BDFB-EDE45CCEE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2F8750A-8859-4CDD-9F6C-763CFC0B5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4AA528-4C8E-4291-A5DF-8626D11CB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B8F53D0-9ABF-4011-9DEE-E5EF2EEB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D79CCEB-7D25-499E-AAF4-2C56A7115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607C0F-977A-4821-91CE-90734A83B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46185-66B5-4192-9226-77BEC3A14F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A64FC7-7EA7-4224-A345-E2499C609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8D9CC7-9106-4FF4-B1EC-DA4F8C9990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8E01F0-213C-48FA-8637-90945C261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09549-8E03-4387-AF16-25BB29B6E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FD8A2C-C292-4DBF-B6B5-B09C04B40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59592B-C050-4E59-9F02-98D6CE5B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96A0297-3BB7-4DA3-A6FE-4D5632DF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45CA421-7010-4A77-82E1-E076CD84B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74907B8-A20D-4B01-9E99-167A6E7FF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132DA0-3135-4A5D-81BC-FFE61872B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9700E-3F90-45EA-8D12-7D0024093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FB14F1-0A5C-4FC6-9B42-0176ECA9F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2649EB-8BBC-4FEA-AB42-2EC814F25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AE78A8-44AD-4522-911D-04E53918B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DD3549-9D77-49DE-A725-0DFA4E7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51803D-4EB4-48FA-A0C6-464E109C2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916F1C-5580-4F30-8031-08411BC1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E7D814-3A6C-42E8-BB32-48F43D0C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D36E-3BC5-4030-92D0-B7C9635A7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47ECA-6AF8-43B3-BE7E-6853AE1DC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FCE56A-2DB5-40A2-98BE-A55639BB9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9F4AD-3DA0-4EAF-929F-A3DBDEE32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067ADE-523A-4B22-BB08-3B45E9A70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02FADC-94FC-42FE-B0C4-D4C718D6DD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EB2B76-E767-48ED-99A4-BBE75BAA71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C4BD54-62CA-4E46-A7C5-F1240ECD8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21E16D-E351-413F-89C0-14395505B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179F8A-6E6A-4905-8C66-995E820A2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44045-464E-4FBF-B178-4B00A8B8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D6403-CCC2-46CB-82C5-5FBF22682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8420D1-47E5-4FB2-8220-606EB9947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131D5-B895-4DFC-968F-5C5B1BF13B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A2AC3F-E7E4-4647-8809-700DF8E0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8D9F624-DE0D-40A5-8090-160FDB210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4988E7-5FDF-4D1F-90B1-D0D2DD32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EE2D81-BD4E-4932-A811-A4A0C7D91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933044-1C51-4C20-A6F7-3B6A2C73B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B88D84-1944-4028-9C8C-2E3D1FE5C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41BEC-5CCD-491D-BB23-B0255F008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14AD74-7910-4718-A8D5-351511198B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593E-BF76-4176-9688-C0DF53DA3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6F91B-29D7-4E15-A3A7-85EA31F53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FAD45B-095A-40E0-A735-143C782D2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7F0062-4766-42F2-A88C-99201888D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6A9244-AD27-4065-BFD5-14279E2AB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97D65D-4722-408A-8918-FFD33FFD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9C2FC1-34A7-4076-9B79-B5958716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E3D450-0382-4DC9-90DC-90B9E16A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BF69F2-2582-4372-B225-BBAE359B6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FFA760-0ABD-473B-A5A1-E6CBE16E6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380AC3-F70A-4FBC-B2C4-F2B26523F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19AFA-AC35-4082-B371-FFC53BCDD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47046-4247-4EC6-9CC3-7B982CB123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958140-1F8F-4E5E-A0E3-410B86EF2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1D04C6-6F84-4187-A6F0-F8ACD01D2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7DE7DD-1806-455A-AF68-C0A5CB9D0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C58D909-3834-4577-8750-285A049DA9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D553A3-3749-4E44-B6DA-098519078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67A544-4993-44C2-86D9-F693E579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536A0B-F3C5-4C0D-A10C-26B2A4C2F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33A31-943E-471D-8711-EF2DC678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A8C18B1-631F-4D53-B500-087A513C2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712C8-A94F-4CC4-AAEE-69B89CC29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F1EC74-E607-4E50-A9BE-7C8DCCAABE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418E15-945B-47CE-81E1-FC7BAC29B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F86AF5-92CA-43BE-B621-8D227753E9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EE87B6-2450-4213-98BE-753B5A12E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B8BEA-56B7-4C5E-B09B-1BEEB5EBE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E336AB-5E4B-4994-905E-2BD6D0D47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E577304-BD71-4C27-87FD-2EBFA511A8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B279E4-76CF-46F9-BD97-4ACD9BD18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5C67EF-5DEC-41D2-A011-F45F94E53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B07782-33E9-433F-97A7-C360D0B1F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A75-B561-410D-9D4F-FC45D52EC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8C8D63-9E73-46FF-BADA-44360B46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6A98A-CB52-4B0F-9074-13829CED5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B097D2-19CC-4F7D-B1FE-99E72185B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93E4C3-8FD9-4C6F-B03E-EA967917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1DDEE0-1558-424E-ABD1-67DB865D5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4E6720-4FAA-4AF5-B733-C6D8E0EB07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387D3C-1514-4DD6-AD0B-1751BBE2C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74C816-3CE0-487B-91CD-9FEA040CF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AF1013D-B356-4099-93B2-5E4C8D424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FA7122-A918-46D1-9C59-45029C0D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2D9E9-D2CC-4A67-9A85-3B218EED2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AD3584-B681-4065-A477-A210F0516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1212E1-4B4A-4573-9B53-12B6838FD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82092D-E890-4D94-B838-007836852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CE6C39-7143-47CE-8114-B39983408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6E2189-7A8E-481E-8247-CD27BB65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55B571-B035-41C4-9D5C-1C7F8A127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6522375-6B0D-4614-83C0-30DD712EF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2273F-3C51-4C6A-8F5C-63661B31D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539987-5606-4C42-A20A-6860CF7A6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756FDAF-30AE-4D4F-BD03-0CAEB87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59E43-95A5-4151-94E6-26E5C8C160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6D5E-B09B-40CE-AF97-8E7350A23C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FBB81-9FC3-4C5E-B448-9B470E211D0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DAC88-42D1-4DDD-A239-E1CF0786A60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80907-8277-4E8B-8518-B1942A23F5C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07916-8BEB-4EC5-BA48-1AF4B102B8E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A7F19-31EE-45A6-9C6E-80B2ED0715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518CF-3A5A-4FA6-B772-506B7340B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B6DCC-0284-456C-9094-DD8FA80295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CF2AB-AB50-4D13-A268-A8E317A32EF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228C5-B2A2-4C16-8B20-7406E10AA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A09A6A-9E66-4F36-8752-E8B1C602FE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856D12-EEF0-4272-89A4-5FAA55B354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988FD-306E-4E9D-9D43-7F5B221E1CE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4920-1E6D-409D-ADE6-6C6887C3A0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66669-0AA9-4BCD-AEBE-0CB20E0FA5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1163C-821B-4939-BD1A-A887A7F772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3C98-E16A-4F97-908B-62DA8A3667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028ECA-D8F1-4491-83DC-6E7D73D79A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454DD4-3919-49D5-B8A7-258794BA13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EDE7E-59C0-4305-BFC9-AD317899607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7AB72-FBCD-4221-B8DF-9A1E4474409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DB63-2EC9-4257-99F6-DC5CACE429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ED94-C2A2-46F5-AA37-F241B33E70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359C9-640E-431F-BD23-23912DF203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BED25-FB61-435B-BFA2-50A01AA2424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00195-1C4D-43C6-847C-17BB45C1B5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658FB-EEEE-4A50-B3DE-25CA55E7C4A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32E9C-BCB1-4D0D-A43E-89B22E934D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1D9A6-9AA6-43BB-9700-2C7C06B2F7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B93BE-F09D-40A7-8FD4-A1A669D4E32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57F3E-0DF7-4D06-8B2F-536523CD8D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A6DD9-6655-40CA-A56C-03032F8D45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335BD-1423-4E0B-9914-12E829E315F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A92B8-6292-45EA-A927-3C2CABC555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7D36C-CB7F-411E-8CDC-0F5EB1C7E56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3F090-340C-4874-8FFA-26F5F9E93F4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79C35-0DE0-4C6F-BA79-825ED53E754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E7FF5-04DB-44AE-B2AB-0AAE6719BF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04295-C0B9-4027-95F6-5ADE85FEE7B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image" Target="../media/image14.png"/><Relationship Id="rId7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4.png"/><Relationship Id="rId3" Type="http://schemas.openxmlformats.org/officeDocument/2006/relationships/image" Target="../media/image14.png"/><Relationship Id="rId4" Type="http://schemas.openxmlformats.org/officeDocument/2006/relationships/image" Target="../media/image14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4" name="图片 1" descr=""/>
          <p:cNvPicPr/>
          <p:nvPr/>
        </p:nvPicPr>
        <p:blipFill>
          <a:blip r:embed="rId1"/>
          <a:stretch/>
        </p:blipFill>
        <p:spPr>
          <a:xfrm>
            <a:off x="2462040" y="2540160"/>
            <a:ext cx="4219920" cy="590400"/>
          </a:xfrm>
          <a:prstGeom prst="rect">
            <a:avLst/>
          </a:prstGeom>
          <a:ln w="0">
            <a:noFill/>
          </a:ln>
        </p:spPr>
      </p:pic>
      <p:pic>
        <p:nvPicPr>
          <p:cNvPr id="1025" name="图片 2" descr=""/>
          <p:cNvPicPr/>
          <p:nvPr/>
        </p:nvPicPr>
        <p:blipFill>
          <a:blip r:embed="rId2"/>
          <a:stretch/>
        </p:blipFill>
        <p:spPr>
          <a:xfrm>
            <a:off x="2228760" y="3852720"/>
            <a:ext cx="4896000" cy="66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28" name="图片 1" descr=""/>
          <p:cNvPicPr/>
          <p:nvPr/>
        </p:nvPicPr>
        <p:blipFill>
          <a:blip r:embed="rId1"/>
          <a:stretch/>
        </p:blipFill>
        <p:spPr>
          <a:xfrm>
            <a:off x="114480" y="1185840"/>
            <a:ext cx="8915400" cy="4486320"/>
          </a:xfrm>
          <a:prstGeom prst="rect">
            <a:avLst/>
          </a:prstGeom>
          <a:ln w="0">
            <a:noFill/>
          </a:ln>
        </p:spPr>
      </p:pic>
      <p:pic>
        <p:nvPicPr>
          <p:cNvPr id="1029" name="Picture 1" descr=""/>
          <p:cNvPicPr/>
          <p:nvPr/>
        </p:nvPicPr>
        <p:blipFill>
          <a:blip r:embed="rId2"/>
          <a:stretch/>
        </p:blipFill>
        <p:spPr>
          <a:xfrm>
            <a:off x="4154400" y="28098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0" name="Picture 1" descr=""/>
          <p:cNvPicPr/>
          <p:nvPr/>
        </p:nvPicPr>
        <p:blipFill>
          <a:blip r:embed="rId3"/>
          <a:stretch/>
        </p:blipFill>
        <p:spPr>
          <a:xfrm>
            <a:off x="5651640" y="280980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1" name="Picture 1" descr=""/>
          <p:cNvPicPr/>
          <p:nvPr/>
        </p:nvPicPr>
        <p:blipFill>
          <a:blip r:embed="rId4"/>
          <a:stretch/>
        </p:blipFill>
        <p:spPr>
          <a:xfrm>
            <a:off x="4211640" y="5229360"/>
            <a:ext cx="431640" cy="384120"/>
          </a:xfrm>
          <a:prstGeom prst="rect">
            <a:avLst/>
          </a:prstGeom>
          <a:ln w="0">
            <a:noFill/>
          </a:ln>
        </p:spPr>
      </p:pic>
      <p:pic>
        <p:nvPicPr>
          <p:cNvPr id="1032" name="Picture 1" descr=""/>
          <p:cNvPicPr/>
          <p:nvPr/>
        </p:nvPicPr>
        <p:blipFill>
          <a:blip r:embed="rId5"/>
          <a:stretch/>
        </p:blipFill>
        <p:spPr>
          <a:xfrm>
            <a:off x="5580000" y="522936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33" name="Picture 1" descr=""/>
          <p:cNvPicPr/>
          <p:nvPr/>
        </p:nvPicPr>
        <p:blipFill>
          <a:blip r:embed="rId6"/>
          <a:stretch/>
        </p:blipFill>
        <p:spPr>
          <a:xfrm>
            <a:off x="7020000" y="517212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36" name="图片 1" descr=""/>
          <p:cNvPicPr/>
          <p:nvPr/>
        </p:nvPicPr>
        <p:blipFill>
          <a:blip r:embed="rId1"/>
          <a:stretch/>
        </p:blipFill>
        <p:spPr>
          <a:xfrm>
            <a:off x="104760" y="1590840"/>
            <a:ext cx="8934480" cy="3676320"/>
          </a:xfrm>
          <a:prstGeom prst="rect">
            <a:avLst/>
          </a:prstGeom>
          <a:ln w="0">
            <a:noFill/>
          </a:ln>
        </p:spPr>
      </p:pic>
      <p:pic>
        <p:nvPicPr>
          <p:cNvPr id="1037" name="Picture 1" descr=""/>
          <p:cNvPicPr/>
          <p:nvPr/>
        </p:nvPicPr>
        <p:blipFill>
          <a:blip r:embed="rId2"/>
          <a:stretch/>
        </p:blipFill>
        <p:spPr>
          <a:xfrm>
            <a:off x="1087560" y="2708280"/>
            <a:ext cx="43164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0" name="图片 1" descr=""/>
          <p:cNvPicPr/>
          <p:nvPr/>
        </p:nvPicPr>
        <p:blipFill>
          <a:blip r:embed="rId1"/>
          <a:stretch/>
        </p:blipFill>
        <p:spPr>
          <a:xfrm>
            <a:off x="662040" y="2100240"/>
            <a:ext cx="7818480" cy="2657520"/>
          </a:xfrm>
          <a:prstGeom prst="rect">
            <a:avLst/>
          </a:prstGeom>
          <a:ln w="0">
            <a:noFill/>
          </a:ln>
        </p:spPr>
      </p:pic>
      <p:pic>
        <p:nvPicPr>
          <p:cNvPr id="1041" name="Picture 1" descr=""/>
          <p:cNvPicPr/>
          <p:nvPr/>
        </p:nvPicPr>
        <p:blipFill>
          <a:blip r:embed="rId2"/>
          <a:stretch/>
        </p:blipFill>
        <p:spPr>
          <a:xfrm>
            <a:off x="1042920" y="216216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044" name="图片 1" descr=""/>
          <p:cNvPicPr/>
          <p:nvPr/>
        </p:nvPicPr>
        <p:blipFill>
          <a:blip r:embed="rId1"/>
          <a:stretch/>
        </p:blipFill>
        <p:spPr>
          <a:xfrm>
            <a:off x="190440" y="590400"/>
            <a:ext cx="8763120" cy="618192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1" descr=""/>
          <p:cNvPicPr/>
          <p:nvPr/>
        </p:nvPicPr>
        <p:blipFill>
          <a:blip r:embed="rId2"/>
          <a:stretch/>
        </p:blipFill>
        <p:spPr>
          <a:xfrm>
            <a:off x="1187280" y="383220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6" name="Picture 1" descr=""/>
          <p:cNvPicPr/>
          <p:nvPr/>
        </p:nvPicPr>
        <p:blipFill>
          <a:blip r:embed="rId3"/>
          <a:stretch/>
        </p:blipFill>
        <p:spPr>
          <a:xfrm>
            <a:off x="5580000" y="3875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7" name="Picture 1" descr=""/>
          <p:cNvPicPr/>
          <p:nvPr/>
        </p:nvPicPr>
        <p:blipFill>
          <a:blip r:embed="rId4"/>
          <a:stretch/>
        </p:blipFill>
        <p:spPr>
          <a:xfrm>
            <a:off x="1187280" y="5315040"/>
            <a:ext cx="432000" cy="384120"/>
          </a:xfrm>
          <a:prstGeom prst="rect">
            <a:avLst/>
          </a:prstGeom>
          <a:ln w="0">
            <a:noFill/>
          </a:ln>
        </p:spPr>
      </p:pic>
      <p:pic>
        <p:nvPicPr>
          <p:cNvPr id="1048" name="Picture 1" descr=""/>
          <p:cNvPicPr/>
          <p:nvPr/>
        </p:nvPicPr>
        <p:blipFill>
          <a:blip r:embed="rId5"/>
          <a:stretch/>
        </p:blipFill>
        <p:spPr>
          <a:xfrm>
            <a:off x="5580000" y="5315040"/>
            <a:ext cx="432000" cy="38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5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5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5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8:22:11Z</dcterms:modified>
  <cp:revision>39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